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C41B-99DA-4921-BAB0-DFF58CF7B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8555-F47D-4E67-B720-6C584B3E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BC94-E043-4ABA-BCD1-C0033898C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4C51-8111-466F-BDC6-D4C16276F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8EDC-37FD-4781-B499-992D63D4F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6CE0-55D1-46E9-918C-B9CDE3F7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8721-E506-4334-B78E-861C88B1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8ABC-FCFD-4E3B-ACCC-BD9AE12F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B298-C85B-402E-A1E8-7663ECA8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FB48-517E-4B2E-9EA8-40A30721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2895-44EF-42C8-8EE0-674D0B33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2F73-A1A6-404F-9CB5-960E40C9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152D-BCD8-4F44-87F4-B3E4C1DD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E649-A8D5-48A7-AC96-DFFD6A9D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5C23-0E9C-4C72-BE2D-1FB5CE73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CE98-8782-4B84-9707-CA29844B8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CD33-26D6-4EFB-8A90-7837F73B2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2442-8D1C-4732-9501-7D7C194A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BA9D-F63A-4213-8A90-D6ABDDC1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E980-0B2D-47B5-B833-AD2038C1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CA3C-9294-4076-A9E0-8DBD9184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B499-D1EE-415F-AD77-9181438F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BD7C-0863-4DA7-8AC4-2B962F85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736C-7381-4C34-BA56-E77AC9EF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A14A-313C-48BD-8378-E6D5BAB63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0095-6C9A-436B-9478-07314F009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336666"/>
                </a:solidFill>
                <a:latin typeface="Arial Black"/>
              </a:rPr>
              <a:t>Муниципальный этап</a:t>
            </a:r>
            <a:br>
              <a:rPr sz="3700"/>
            </a:br>
            <a:r>
              <a:rPr b="1" i="1" lang="en-US" sz="3700" spc="-1" strike="noStrike">
                <a:solidFill>
                  <a:srgbClr val="336666"/>
                </a:solidFill>
                <a:latin typeface="Arial Black"/>
              </a:rPr>
              <a:t>Всероссийской олимпиады школьников</a:t>
            </a:r>
            <a:br>
              <a:rPr sz="3700"/>
            </a:br>
            <a:r>
              <a:rPr b="1" i="1" lang="en-US" sz="3700" spc="-1" strike="noStrike">
                <a:solidFill>
                  <a:srgbClr val="336666"/>
                </a:solidFill>
                <a:latin typeface="Arial Black"/>
              </a:rPr>
              <a:t>2018 – 2019 учебный год</a:t>
            </a:r>
            <a:br>
              <a:rPr sz="3700"/>
            </a:br>
            <a:r>
              <a:rPr b="1" i="1" lang="en-US" sz="3700" spc="-1" strike="noStrike">
                <a:solidFill>
                  <a:srgbClr val="336666"/>
                </a:solidFill>
                <a:latin typeface="Arial Black"/>
              </a:rPr>
              <a:t>10 – 11 классы</a:t>
            </a:r>
            <a:endParaRPr b="0" i="1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Иллюстративный материал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Плакаты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786200" y="152280"/>
            <a:ext cx="4050000" cy="65534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72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Плакаты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16" descr="https://arhivurokov.ru/videouroki/html/2014/06/16/98683292/98683292_2.jpeg"/>
          <p:cNvPicPr/>
          <p:nvPr/>
        </p:nvPicPr>
        <p:blipFill>
          <a:blip r:embed="rId1"/>
          <a:stretch/>
        </p:blipFill>
        <p:spPr>
          <a:xfrm>
            <a:off x="4572000" y="152280"/>
            <a:ext cx="41673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Плакаты  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                               </a:t>
            </a:r>
            <a:r>
              <a:rPr b="0" lang="en-US" sz="3600" spc="-1" strike="noStrike">
                <a:solidFill>
                  <a:srgbClr val="336666"/>
                </a:solidFill>
                <a:latin typeface="Arial Black"/>
              </a:rPr>
              <a:t>К)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848720" cy="52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960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Работа с исторической картой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22447" t="0" r="6016" b="0"/>
          <a:stretch/>
        </p:blipFill>
        <p:spPr>
          <a:xfrm>
            <a:off x="0" y="990720"/>
            <a:ext cx="88995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66"/>
                </a:solidFill>
                <a:latin typeface="Arial Black"/>
              </a:rPr>
              <a:t>Плакаты</a:t>
            </a:r>
            <a:endParaRPr b="0" lang="en-US" sz="6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3" descr="http://art-assorty.ru/uploads/posts/2016-10/1476510513_621f46ba04de698a5d7998c749690ba2.jpg"/>
          <p:cNvPicPr/>
          <p:nvPr/>
        </p:nvPicPr>
        <p:blipFill>
          <a:blip r:embed="rId1"/>
          <a:srcRect l="0" t="0" r="0" b="3577"/>
          <a:stretch/>
        </p:blipFill>
        <p:spPr>
          <a:xfrm>
            <a:off x="4173480" y="0"/>
            <a:ext cx="4818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66"/>
                </a:solidFill>
                <a:latin typeface="Arial Black"/>
              </a:rPr>
              <a:t>Плакаты    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                     </a:t>
            </a:r>
            <a:r>
              <a:rPr b="0" lang="en-US" sz="4000" spc="-1" strike="noStrike">
                <a:solidFill>
                  <a:srgbClr val="336666"/>
                </a:solidFill>
                <a:latin typeface="Arial Black"/>
              </a:rPr>
              <a:t>Б).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8600" y="1036800"/>
            <a:ext cx="861048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Плакаты              В).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314360"/>
            <a:ext cx="7391520" cy="5543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73915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66"/>
                </a:solidFill>
                <a:latin typeface="Arial Black"/>
              </a:rPr>
              <a:t>Плакаты</a:t>
            </a:r>
            <a:endParaRPr b="0" lang="en-US" sz="60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48320" y="304920"/>
            <a:ext cx="4200480" cy="63244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72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66"/>
                </a:solidFill>
                <a:latin typeface="Arial Black"/>
              </a:rPr>
              <a:t>Плакаты 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                             </a:t>
            </a:r>
            <a:r>
              <a:rPr b="0" lang="en-US" sz="3600" spc="-1" strike="noStrike">
                <a:solidFill>
                  <a:srgbClr val="336666"/>
                </a:solidFill>
                <a:latin typeface="Arial Black"/>
              </a:rPr>
              <a:t>Д)</a:t>
            </a: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07696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66"/>
                </a:solidFill>
                <a:latin typeface="Arial Black"/>
              </a:rPr>
              <a:t>Плакаты</a:t>
            </a:r>
            <a:endParaRPr b="0" lang="en-US" sz="6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297320" y="228600"/>
            <a:ext cx="48466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66"/>
                </a:solidFill>
                <a:latin typeface="Arial Black"/>
              </a:rPr>
              <a:t>Плакаты</a:t>
            </a:r>
            <a:endParaRPr b="0" lang="en-US" sz="6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Ж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Советские плакаты (99 фото) "/>
          <p:cNvPicPr/>
          <p:nvPr/>
        </p:nvPicPr>
        <p:blipFill>
          <a:blip r:embed="rId1"/>
          <a:srcRect l="0" t="0" r="0" b="6167"/>
          <a:stretch/>
        </p:blipFill>
        <p:spPr>
          <a:xfrm>
            <a:off x="4495680" y="304920"/>
            <a:ext cx="43038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3T17:38:31Z</dcterms:created>
  <dc:creator>Вероника</dc:creator>
  <dc:description/>
  <dc:language>en-US</dc:language>
  <cp:lastModifiedBy>Вероника</cp:lastModifiedBy>
  <dcterms:modified xsi:type="dcterms:W3CDTF">2018-10-14T21:20:4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